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40B-45B8-4808-82A6-C4B7914C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130-8FAF-420B-BE9C-A06AA6F5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D4C-61F5-4B79-912B-1F704F1C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E08-66CF-41AE-9BBA-D633FA96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32BB-34FB-4424-BB76-72F23D73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9B4F-875D-4253-BDDA-A5B6A2D5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1CD7-44AA-4F4D-B0CF-9C2D9E8E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7DDF-077E-4F8A-B81A-776042ED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18F9-A47F-4172-881F-BD7D270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6F9F-007D-448A-AD93-C59616DB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B441-662C-4E34-9BA2-990AD97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63C-C7D2-41F4-840A-329F6D87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BA3A-0557-4F7A-8C40-D6CDEA00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3434-4BCF-4AF7-8B94-DB964F5D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D45F-EC09-4F48-B3DA-208BEFEC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A51E-6A7E-4B2D-BF62-4AF4B1DC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2B54-D1C3-48BD-AD83-A85934FB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A44-3B80-479D-AE42-9D0065A4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F58-8F62-4458-9AD8-7597F8EF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313-3F2C-4584-A7D7-C7E830B9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51D-17BA-4D7F-A411-6982FFFD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6C5-BCB9-4309-91C7-FD5C87FD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CD6-F969-43EA-9D17-3E7025A6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13D-2B44-40F1-9FF5-3E80BC3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B45F-606C-4452-8769-C2C234124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2C6A-D438-49D5-B449-6BEAED0A7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r. Obama’s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eat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tched the President’s 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wards, we made goa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our combined goa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d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my grandfather in New Yor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sew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jo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Las Ve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read and understand bett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ore Scienc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use a calculat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better writ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more experimen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park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owling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ore about my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better sw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b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to keep my community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75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5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our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an 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St. Louis, Misso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in the USA (born elsew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my new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amond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you for reading our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7:02:04Z</dcterms:created>
  <dc:creator>Teacher PLMS</dc:creator>
  <dc:description/>
  <dc:language>en-US</dc:language>
  <cp:lastModifiedBy>Teacher PLMS</cp:lastModifiedBy>
  <dcterms:modified xsi:type="dcterms:W3CDTF">2009-09-11T16:52:30Z</dcterms:modified>
  <cp:revision>26</cp:revision>
  <dc:subject/>
  <dc:title>Goals</dc:title>
</cp:coreProperties>
</file>